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EDF-BFBF-4541-831E-CF5E6D76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79F-9F9F-4050-B6D5-E90B2557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392-98E3-4DF6-BF3D-19AC209F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FC2-D5BF-427F-BEAC-28006347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448-8FF4-4418-8C6B-49868D78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28A-8A90-4B5A-8E6C-340C2526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ED1-2455-4F33-8E31-C3F2DA34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CDD-5255-4DDA-8CBC-62836641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F27-4EB9-4598-B09C-42FF3BCF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B10F-7B40-4526-8148-CBF62733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D1D4-FCAB-45F6-BAE0-0119AB86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5EC2-D959-4E35-A21D-74944529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5E70-7CFD-46FC-A9F0-63F4EF23EF1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3627409_thumbnail"/>
          <p:cNvPicPr/>
          <p:nvPr/>
        </p:nvPicPr>
        <p:blipFill>
          <a:blip r:embed="rId1"/>
          <a:srcRect l="0" t="19527" r="0" b="65723"/>
          <a:stretch/>
        </p:blipFill>
        <p:spPr>
          <a:xfrm>
            <a:off x="-4680" y="5294160"/>
            <a:ext cx="9180360" cy="1563840"/>
          </a:xfrm>
          <a:prstGeom prst="rect">
            <a:avLst/>
          </a:prstGeom>
          <a:ln w="0">
            <a:noFill/>
          </a:ln>
        </p:spPr>
      </p:pic>
      <p:sp>
        <p:nvSpPr>
          <p:cNvPr id="42" name="Line 4"/>
          <p:cNvSpPr/>
          <p:nvPr/>
        </p:nvSpPr>
        <p:spPr>
          <a:xfrm flipH="1">
            <a:off x="250560" y="765000"/>
            <a:ext cx="856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27080" y="355680"/>
            <a:ext cx="63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Πύλη Χρηματοδότησης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uropean-funding-guide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4427640" y="170028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4500720" y="777960"/>
            <a:ext cx="464328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97a"/>
                </a:solidFill>
                <a:latin typeface="Arial"/>
              </a:rPr>
              <a:t>Πώς να βρω χρήματα για την εκπαίδευση μο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ου να ψάξω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χολική ιστοσελίδα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υνήθως οι τελευταίες ανακοινώσεις μπορούν να βρεθούν στην ιστοσελίδα του σχολείου ή του πανεπιστημίου σο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ww.European-funding-guide.eu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θα βρείτε άμεσα περισσότερες από 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0 υποτροφίες και λοιπές χρηματοδοτήσεις αξίας 27 δισεκατομμυρίων ευρ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ώς να κάνω αίτησ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Ξεκίνησε νωρίς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πολλά ιδρύματα διαθέτουν μόνο μια προθεσμία υποβολής αιτήσεων ετησίω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τείλε όσο το δυνατόν περισσότερες αιτήσεις : Οι περισσότερες απορρίψεις γνωστοποιούνται μετά από μερικούς μήνες, περισσότερες αιτήσεις αυξάνουν σημαντικά την πιθανότητα της επιτυχία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τείλε εξατομικευμένες αιτήσει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106200" y="934920"/>
            <a:ext cx="42498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9900"/>
                </a:solidFill>
                <a:latin typeface="Arial"/>
              </a:rPr>
              <a:t>3 </a:t>
            </a:r>
            <a:r>
              <a:rPr b="1" lang="el-GR" sz="1800" spc="-1" strike="noStrike">
                <a:solidFill>
                  <a:srgbClr val="ff9900"/>
                </a:solidFill>
                <a:latin typeface="Arial"/>
              </a:rPr>
              <a:t>Μύθοι σχετικά με τη χρηματοδότηση της εκπαίδευσης σ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l-GR" sz="1400" spc="-1" strike="noStrike" baseline="30000">
                <a:solidFill>
                  <a:srgbClr val="000000"/>
                </a:solidFill>
                <a:latin typeface="Arial"/>
              </a:rPr>
              <a:t>ος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μύθο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Οι υποτροφίες, οι επιχορηγήσεις και τα φοιτητικά δάνεια  χορηγούνται βάσει προσόντων, ανάγκης και πολιτικής δέσμευσ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Η αλήθεια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Υπάρχει μεγάλη ποικιλία κριτηρίων επιλογής. Τέτοια μπορεί να είναι οτιδήποτε από την εργασία των γονιών σου μέχρι την καταγωγή σο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l-GR" sz="1400" spc="-1" strike="noStrike" baseline="30000">
                <a:solidFill>
                  <a:srgbClr val="000000"/>
                </a:solidFill>
                <a:latin typeface="Arial"/>
              </a:rPr>
              <a:t>ος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μύθος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Υπάρχουν λίγα διαθέσιμα κεφάλαι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Η αλήθεια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Υπάρχουν &gt;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000 υποτροφίες και άλλες ευκαιρίες χρηματοδότησης εντός Ευρώπης με συνολική αξία άνω των 27 δισεκατομμυρίων ευρώ, 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εξ αυτών μόνο στην Ελλάδ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l-GR" sz="1400" spc="-1" strike="noStrike" baseline="30000">
                <a:solidFill>
                  <a:srgbClr val="000000"/>
                </a:solidFill>
                <a:latin typeface="Arial"/>
              </a:rPr>
              <a:t>ος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μύθος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ίναι πολλοί αυτοί που κάνουν αιτήσεις για χρηματοδότησ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Η αλήθεια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Οι περισσότεροι άνθρωποι δεν αιτούνται ποτέ για χρηματοδότησ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Home"/>
          <p:cNvPicPr/>
          <p:nvPr/>
        </p:nvPicPr>
        <p:blipFill>
          <a:blip r:embed="rId2"/>
          <a:stretch/>
        </p:blipFill>
        <p:spPr>
          <a:xfrm>
            <a:off x="6156360" y="115920"/>
            <a:ext cx="291636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1:11:17Z</dcterms:created>
  <dc:creator>Mira Maier</dc:creator>
  <dc:description/>
  <dc:language>en-US</dc:language>
  <cp:lastModifiedBy>Heinrich Bauer</cp:lastModifiedBy>
  <dcterms:modified xsi:type="dcterms:W3CDTF">2014-11-07T15:14:00Z</dcterms:modified>
  <cp:revision>40</cp:revision>
  <dc:subject/>
  <dc:title>Slide 1</dc:title>
</cp:coreProperties>
</file>